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50F-97FB-4A2F-804F-A07CD2F6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78B-7E9E-4FCD-91F2-6C616238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9BD-99EF-493D-BE88-D4A9A117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1C9-4F9B-40B5-887C-DD79BED5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34E0-4A30-44EF-B301-65FA26DD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65FA-232A-46CB-8A8E-950230D6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83C1-AF8D-419C-9182-146ADB34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A3E4-75B6-45C2-942D-993CCD83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D94D-9763-4E1E-96B3-138658AD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48B2-5577-4B87-A156-B69170E9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61E3-7269-43DF-B569-EF4B040F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3DC-0FB4-491F-AD10-D7D85642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8F92-F9C7-4DEF-9D38-BF38992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2E0C-6A0F-4F03-BF7A-33A6CDAC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DE4B-2CE3-41C0-96E9-0F2E2CA4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CAA1-322B-4E47-A8E1-8B619466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A7E1-21FE-4EA1-BD3C-46C2426E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A465-0A71-4C94-A114-0C0A470C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4F54C-77BD-43D5-9194-5A0E3B66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D0DED-8B11-4BE3-A202-6A439549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27F16-5179-42E7-AB74-A9BC6ACC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E6FA-EFAA-4436-8DEF-D8666D5B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361-2A88-4354-A8CC-374F2FC1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C495-4177-4AA6-B371-0B0B5D50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EACA-7DA9-454C-960E-113F22C3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8BE7-6773-471A-B861-92059377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29B1-6835-4C07-9C41-7380F6D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A75D-77B0-44DA-9430-55F57114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39B7-7798-4755-AC02-85EEB149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C1D98-7D0B-4D33-8999-00C0AEA6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21655-5719-4C9C-9F0A-613E4503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AB43D-80D1-4238-AD43-0871A0F6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8FADE-6AEA-483E-869B-5128498C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B55-603D-42FF-A075-3BE2FC76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3F54F-23DF-4360-8648-89AD52E5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9D27-FEC6-4697-B306-1DA2C95B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1000-A614-48B7-8C84-1FD2151A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B8872-5C1E-4BD1-A2F8-4B9FEA9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AD84-C5E0-4F12-92EB-1F2A6D40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E3447-1DE3-4D6A-B6B4-A377926A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FBA2E-74F6-4D37-A424-DFBFC5C4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41DA1-3A47-42A1-B41D-D79194D1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1E08-779D-4A31-A43B-80567AFD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3332C-29D8-46A8-B63E-CE133AA7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45E-8805-47B8-BEA6-1833F52E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08EE4-B648-4CED-9266-3C2163F3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8CECA-72DC-4E6D-8B73-F13E1690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A57CE-A94A-4D4D-9FF9-ED8E9DBB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13A0D-2F8F-46AB-BEC1-349F6EED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9BE9-1CF9-4634-8DED-05237001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C408C-2976-4C1B-8490-1CBB2C74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E387E-8FF4-4E10-9D2D-A57DBAE0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D457-31D4-4463-BF23-DE0FA406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F66D3-8811-4361-B5F5-CE412A26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1AFDE-84BD-4E50-9DF0-469066ED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C70-C156-419B-87B1-9BDBD62B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9AD0C-6374-4C25-8299-BC37039A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A453C-466B-4B35-943B-E411108C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9E2CD-B342-4DAC-9100-8906AEDC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019EA-9C8B-45A1-B1A5-FDF5A95E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1B366-6A39-4FE2-9171-1294764A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F13C9-98D9-4443-989B-9B3209C5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A424-D89C-46DA-9F87-B3F69304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C2421-6FED-47AC-8D35-4D587AD8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87209-C8C5-4A70-B897-13E5B89D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AE2FF-A83B-46AF-9BC5-75E05E7D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162-0A8E-4AE8-B52B-16C15908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D8BF7-EAD3-40CB-A5A0-6EBCCCAC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8C1AA-3F0C-484C-821B-7AC9896E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71364-621E-43B9-BD9C-0B1C1A11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5A1-09A9-490F-9029-FB1CF7A5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EEB-F39B-4146-89D3-C1C9E709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F4E5-41CF-4A91-ACCD-5E8222414FD7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4244-6DFD-4E03-9699-A90827624DB5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0CAA-8669-405C-8690-217BF5792D1E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3868-1749-4E30-8A3B-CDA3D6F50ACA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4F85-6F60-4CB0-A4F3-D0A6772C68DF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9558-DBA0-427F-BEDA-5667AED31C9F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603360" y="2225520"/>
            <a:ext cx="6834240" cy="2443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09120" y="4114800"/>
            <a:ext cx="64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ook Tal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 Stoo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y Should YOU read it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spensefu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crip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ought-provo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379960" cy="2359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3733920" y="1960560"/>
            <a:ext cx="2958840" cy="2230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3"/>
          <a:stretch/>
        </p:blipFill>
        <p:spPr>
          <a:xfrm>
            <a:off x="6397560" y="4191120"/>
            <a:ext cx="25941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ear the Story’s Sou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36760" cy="2438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2895480" cy="4186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1828800" y="411480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1:15:18Z</dcterms:created>
  <dc:creator>Tiffany A. Brewer</dc:creator>
  <dc:description/>
  <dc:language>en-US</dc:language>
  <cp:lastModifiedBy>Tiffany A. Brewer</cp:lastModifiedBy>
  <dcterms:modified xsi:type="dcterms:W3CDTF">2008-11-18T01:51:47Z</dcterms:modified>
  <cp:revision>7</cp:revision>
  <dc:subject/>
  <dc:title>Three Skeleton Key</dc:title>
</cp:coreProperties>
</file>